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5A5E7-AAC7-45A7-B3DC-0DA43C96D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09C2B-BB27-40F0-89BF-D78075B3F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AA64F-D609-4BD8-B183-6542CB32F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55A33-50D8-4CB3-8EF1-B80A8445A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4ECD7-5C80-4E34-A5F6-3182598E4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96578-CCA6-4FEB-BDA6-5160FA2AE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A13AB-7E00-4D80-B820-EC9C17206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FA49C-982C-4470-A3EA-C0C0493CD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0BF8F-0906-45C4-8EAD-8E236F06D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8FAAB-E7DA-4816-9E3B-AA3C6731C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88E90-03F8-4B63-BD14-02B138C7F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58477-BF19-4E45-905A-4E40EEEBC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E6B08-4796-4C1C-82CB-40E0D0F3AA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914400" y="2057400"/>
            <a:ext cx="7848720" cy="1660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My name is.............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 rot="5400000">
            <a:off x="1942920" y="2933280"/>
            <a:ext cx="5715000" cy="15242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4167"/>
                <a:gd name="adj2" fmla="val 624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MEAGAN!!!!!!!!!!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00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2006auskickfooty%20019" descr=""/>
          <p:cNvPicPr/>
          <p:nvPr/>
        </p:nvPicPr>
        <p:blipFill>
          <a:blip r:embed="rId1"/>
          <a:stretch/>
        </p:blipFill>
        <p:spPr>
          <a:xfrm>
            <a:off x="-4648320" y="3200400"/>
            <a:ext cx="15240240" cy="11430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 txBox="1"/>
          <p:nvPr/>
        </p:nvSpPr>
        <p:spPr>
          <a:xfrm>
            <a:off x="0" y="7467480"/>
            <a:ext cx="375300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MEAGAN!!!!!!!!!!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30481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-21337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609480" y="762120"/>
            <a:ext cx="7925040" cy="46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I am...............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47635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62120" y="-38098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228600" y="304920"/>
            <a:ext cx="8458200" cy="5943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Eight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1371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3T06:40:22Z</dcterms:created>
  <dc:creator> john caine</dc:creator>
  <dc:description/>
  <dc:language>en-US</dc:language>
  <cp:lastModifiedBy> john caine</cp:lastModifiedBy>
  <dcterms:modified xsi:type="dcterms:W3CDTF">2007-05-13T07:00:35Z</dcterms:modified>
  <cp:revision>1</cp:revision>
  <dc:subject/>
  <dc:title>PowerPoint Presentation</dc:title>
</cp:coreProperties>
</file>